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D33-7419-4F3D-8EFC-18C3DABE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F9A-7211-47C8-8B72-0FC2810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AF3-F344-4DED-BC88-83E10448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FAA-074E-4B87-83BC-A02A60C6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565-DBF5-4699-8CE7-A9DAFA6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D4D-05A1-41D5-9EDE-33941E05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F67-A231-4B0B-AD7F-DA0081A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909-E67D-4FB3-9515-0383873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1CA-E882-4C7E-8CAA-BC26BF39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C67-3ACB-43FF-98D6-488E6B6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B1D-77EF-40E8-9EE2-29610B3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CF2-6207-4EA5-8C65-D0A9C44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F74-3F1B-4C4C-911B-52840731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group3pas.wikispaces.com/Music,%20Map%20and%20Pyramid%20of%20the%20Sun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www.greatdreams.com/mynproph.htm" TargetMode="External"/><Relationship Id="rId5" Type="http://schemas.openxmlformats.org/officeDocument/2006/relationships/hyperlink" Target="http://www.greatdreams.com/mynproph.ht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hyperlink" Target="http://www.uncp.edu/home/rwb/lecture_nonwest_world.htm" TargetMode="External"/><Relationship Id="rId5" Type="http://schemas.openxmlformats.org/officeDocument/2006/relationships/hyperlink" Target="http://www.uncp.edu/home/rwb/lecture_nonwest_world.ht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B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98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98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998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998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98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998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was Tenochtitlan.  It was built in the middle of a lake.  Now Mexico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other Tribes pay trib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ught with other tri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laved other tribes and used them for sacrifi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down by Smallpox and Cort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leader, Montezuma were tricked by Cortez who pretended he was friends with them.  The Aztecs thought he was a the pale skinned god Quetza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-Aztec_Empire_Map.pn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314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0" y="228600"/>
            <a:ext cx="3657600" cy="247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12408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3pas.wikispaces.com/Music, Map and Pyramid of the S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the Mexican coast-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everal major cities.  Was harder for conquistadors to overth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little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laves who could regain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eared- not sure what happen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37320" y="501336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892680"/>
            <a:ext cx="3886200" cy="296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20923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6019920"/>
            <a:ext cx="1904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reatdreams.com/mynproph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790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around the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 w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 writt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animal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20 milli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rganized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31080" y="41832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2987640"/>
            <a:ext cx="41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79900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7920" y="609624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uncp.edu/home/rwb/lecture_nonwest_world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d with 500 men and 16 horses to conquer the Aztecs in 15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d to come in friendship and he happened to come on the day the Aztecs were waiting for a go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tzacoat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tu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 Leader, Montezuma was taken hostage and eventually k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were routed but returned in 1521 and defeat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8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8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8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3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13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with 180 men and 27 horses into Peru to conquer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ire quickly fell because they were fighting a civil war- a war with a country fighting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hualpa was captured and held for ransom, and was still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quistadors Changed The Ame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ative cultures are lost forever, as well as hundreds of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for conquistadors like Cortez and Pizzaro the majority of people in the Americas might not be made up of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Central and South America might not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might still be made up of Aztecs and several other t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49Z</dcterms:created>
  <dc:creator>jklib</dc:creator>
  <dc:description/>
  <dc:language>en-US</dc:language>
  <cp:lastModifiedBy>jklib</cp:lastModifiedBy>
  <dcterms:modified xsi:type="dcterms:W3CDTF">2011-11-28T14:18:09Z</dcterms:modified>
  <cp:revision>18</cp:revision>
  <dc:subject/>
  <dc:title>Pre-Columbian Civilizations &amp; European Conquistadors </dc:title>
</cp:coreProperties>
</file>